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C21-B3E4-41E4-BCD0-5D1D52C2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F7E-657E-41C5-8BD7-071E904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F39-08AE-4B13-8053-1FF86EE6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952-36A6-4FB0-AFB1-0DEEAFDD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5EE-C0DF-442D-BD51-9F807682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FD0-0DC0-416B-A1BB-95CB87FF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56B-6B63-4379-8788-F25353B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CBD-95BB-4F41-9EAA-82D54931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17D-491A-49AF-968F-FB7E1540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7BE-2EF2-4941-8F1F-FF867DB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B78-1A9B-4EA6-9D62-BD6A14A5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4C2-AD25-48FF-B61C-F01942A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2D91-A1E7-4AD2-B6BF-367F9FB49AE7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9680" y="207180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"Волшебные десятичные дроби" </a:t>
            </a: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в 5-м класс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" name="Рисунок 3" descr="888.jpg"/>
          <p:cNvPicPr/>
          <p:nvPr/>
        </p:nvPicPr>
        <p:blipFill>
          <a:blip r:embed="rId1"/>
          <a:stretch/>
        </p:blipFill>
        <p:spPr>
          <a:xfrm>
            <a:off x="285840" y="214200"/>
            <a:ext cx="2143080" cy="157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785680" y="285480"/>
            <a:ext cx="60721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Учебный проект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сказка про десятичные дроб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городе, где жили дроби, такие, как (12/10), (289/100), (1872/10000), (5/100) и вообще с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ями 10, 100, 1000 и т.д., все жили очень дружно. Никто никого не бил, не обижал и никто н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порил. В этом городе были красивые дома, а на окошках стояли красивые цветочки. У каждой дроби бы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вой дом и сад. В саду росли наливные яблочки, вишенки, груши, а ещё разные цветоч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Были там также и школы. Туда ходили маленькие дробики, со знаменателем 10. Были и взрослые дроб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о знаменателями от 100 до 100 000, и совсем старые, со знаменателем от 100 000 и до бесконечност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зрослые дроби бегали на рабо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Рисунок 3" descr="OKSVAdrobi2-1.jpg"/>
          <p:cNvPicPr/>
          <p:nvPr/>
        </p:nvPicPr>
        <p:blipFill>
          <a:blip r:embed="rId1"/>
          <a:stretch/>
        </p:blipFill>
        <p:spPr>
          <a:xfrm>
            <a:off x="6357960" y="5143680"/>
            <a:ext cx="2405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, а старики и старушки весь день сидели в креслах-качалках и читали книги, а иногда шлепали п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пкам дробей-малышей за непослушание или шалости, или читали им сказ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нажды на город напал Штрих со своей армией. Он беспощадно убивал всех, сжигал дома, грабил и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есять лет длилась война. Побеждали то одни, то другие, но выиграть войну никто не мог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ин добрый Волшебник помог беспомощным дробям. Он погасил горящие дома, вернул награбленно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прогнал Штриха проч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ишь один вопрос волновал Волшебника: “Как же вылечить пораненные дроби?”. Он долго думал 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конец, придумал. Вместо дробной черты он дал дробям запятые, убрал знаменатели, а таким дробям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1/100, 32/1000 и т.д. добавил после целой части справа 1, 2, 3 и т.д. нулей, смотря сколько их было 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Обоснование значимости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С десятичными дробями учащиеся пятого класса встречаются впервые. Они должны научиться оперировать с дробями так же хорошо, как с натуральными числами, понять значимость этих чисел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Адресация: Данный проект целесообразно использовать при изучении темы “Десятичные дроби”, (математика 5 класс)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Образовательны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родолжение работы по формированию устойчивого интереса к математике и к внеклассным формам его углубленного изучения. Изучение десятичных дроб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Создание условий для отношений сотрудничества между учащимися, а также для индивидуальной работы; формирования чувства ответственности за порученную работу; умения слушать и слышать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Развивающи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Развитие творческих способностей учащихся (воображения, наблюдательности, памяти, мышления); Развитие самоанализа и рефлексии; Развитие способности выявлять причинно-следственные связ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Из истории десятичных дроб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явились десятичные дроби в трудах арабских математиков в Средние века и независимо от них в древнем Китае. Но и раньше, в древнем Вавилоне, использовали дроби такого же типа, только шестидесятеричны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зднее учёный Гартман Бейер (1563-1625) выпустил сочинение “Десятичная логистика”, где писал: “…я обратил внимание на то, что техники и ремесленники, когда измеряют какую-нибудь длину, то очень редко и лишь в исключительных случаях выражают её в целых числах одного наименования; обыкновенно им приходится или брать мелкие меры, или обращаться к дробям, точно так же астрономы измеряют величины не только в градусах, но и в долях градуса, т.е. минутах, секундах и т.п., но мне кажется, их деление на 60 частей не так удобно, как деление на 10, на 100 частей и т.д., потому что в последнем случае гораздо легче складывать, вычитать и вообще производить арифметические действия; мне кажется, что десятичные доли, если бы ввести вместо шестидесятеричных, пригодились бы не только для астрономии, но и для всякого рода вычислений”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егодня мы пользуемся десятичными дробями естественно и свободно. Однако то, что кажется естественным нам, служило настоящим камнем преткновения для учёных Средневековья. В Западной Европе 16 в. вместе с широко распространённой десятичной системой представления целых чисел в расчётах повсюду применялись шестидесятеричные дроби, восходящие ещё к древней традиции вавилонян. Понадобился светлый ум нидерландского математика Симона Стевина, чтобы привести запись и целых, и дробных чисел в единую систему. По-видимому, толчком создания десятичных дробей послужили составленные им таблицы сложных процентов. В 1585 г. он опубликовал книгу “Десятина”, в которой объяснил десятичные дроби. Обозначения Стевина не отличались совершенством, так же как и обозначения его коллег и последователе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Вот как бы они записали число 3,1415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. Стевин  3 0 1 1 4 2 1 3 5 4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Й.Х. Бейер 0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  1  4   1   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. Жирар 3|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1415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Стих о десятичных дроб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857160"/>
            <a:ext cx="3114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дроби не простые,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знаки не пустые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дроби десятичные,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Возможно и привычные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Если правильные мы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Слева нас стоят нули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Прямо перед запятой –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Этот знак ведь непростой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Запятая в нас важна,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И всегда она нужна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Вот пример вам: если вдруг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аписал ваш лучший друг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Про единицу, что она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Одной десятой равна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о ведь это так ужасно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И старался он напрасно!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Дети, помните всегда: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Запятая в нас важна!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" name="Рисунок 6" descr="2.jpg"/>
          <p:cNvPicPr/>
          <p:nvPr/>
        </p:nvPicPr>
        <p:blipFill>
          <a:blip r:embed="rId1"/>
          <a:stretch/>
        </p:blipFill>
        <p:spPr>
          <a:xfrm>
            <a:off x="214200" y="3929040"/>
            <a:ext cx="2013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920" y="571320"/>
            <a:ext cx="5114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вот ещё правило, оно не сложне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в конце десятичных дроб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ли отбросить иль их приписа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а хоть всю тетрадь нулями исписать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обь, равная данной получ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ак зачем же тогда мучиться?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дроби десятичные сравн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много и не надобно уч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исло знаков десятичных уравня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 одной из них справа нули при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, отбросив запятую пот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авое с левым сравнить числом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нас вычесть, иль слож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не следует спеш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0" y="285480"/>
            <a:ext cx="4114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ут совет мы можем дать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уг под другом нас за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апятая чтоб была под запято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складывать надо та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будто нет их ни одн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потом обратите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 можно без особого стар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в самом конце, в ответе её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осто поставить на место своё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еперь, когда вы всё о нас знает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многое теперь понимает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мните, мы дроби десятичны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ам, наверное, привычны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се же, приступая к решению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думывайте всё хорошенько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8:43:14Z</dcterms:created>
  <dc:creator>26526</dc:creator>
  <dc:description/>
  <dc:language>en-US</dc:language>
  <cp:lastModifiedBy>26526</cp:lastModifiedBy>
  <dcterms:modified xsi:type="dcterms:W3CDTF">2010-06-04T11:47:11Z</dcterms:modified>
  <cp:revision>8</cp:revision>
  <dc:subject/>
  <dc:title>Учебный проект </dc:title>
</cp:coreProperties>
</file>